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2BE-FDF1-4FAB-A2EB-E7E9F4AD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425-9C85-4BA0-9172-617DEDB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7B3-C2ED-464C-8508-12F000EC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3A6-D4F2-4A84-9BAB-781CF52C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9DF-B938-43AB-A16F-153B0832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13D6-A22A-4DFD-AD6E-7E86763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F53-78E2-45B5-BE87-EA8C6BEB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8C59-AD11-46F0-9128-05A0726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C3E-37C4-45AA-9E1B-9500E44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D945-9A51-48B8-8F95-98EB1CB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9BC5-2130-4A5B-9302-A0BA0AE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602-CF94-4EEE-8007-3586041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090-0E9E-40D8-83DC-E484061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4B3-7097-4242-9765-56968D33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D85-9A02-42E1-88DD-694C4B9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861C-839C-417B-9CCE-120457E2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398-E4EE-4DB7-8FFE-03465023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16E-8583-43BE-A175-87C26F17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B3A-365B-4C69-8F3D-6428232E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509-AEC8-4FDE-A76F-03E6770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A8B-DB77-4E25-B99E-4D90C84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412-FCB8-4465-A614-DA6965B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D4F-CB50-4285-8DF7-9BC52C0E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1AE-2500-4233-9DA5-61310FF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3821040" cy="433548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1644480" cy="166068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50420"/>
              </a:gs>
              <a:gs pos="50000">
                <a:srgbClr val="0d0a46"/>
              </a:gs>
              <a:gs pos="100000">
                <a:srgbClr val="0504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16F-611A-45F9-B76A-13BB08FDA7EE}" type="slidenum"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E04-FDE4-4194-9000-CB2F95E6CC5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4" marL="1828800" algn="ctr">
              <a:spcBef>
                <a:spcPts val="499"/>
              </a:spcBef>
              <a:buClr>
                <a:srgbClr val="633d4e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Smith v. Marx</a:t>
            </a:r>
            <a:br>
              <a:rPr sz="6000"/>
            </a:b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or</a:t>
            </a:r>
            <a:br>
              <a:rPr sz="6000"/>
            </a:b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apitalism v. Socialism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ouis Blanc &amp; National Workshop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rench socialis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Believed every person had the right to a </a:t>
            </a:r>
            <a:r>
              <a:rPr b="0" lang="en-US" sz="3200" spc="-1" strike="noStrike" u="sng">
                <a:solidFill>
                  <a:srgbClr val="fcab40"/>
                </a:solidFill>
                <a:uFillTx/>
                <a:latin typeface="Cornerstone"/>
              </a:rPr>
              <a:t>JOB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Govt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hould provide work for the unemployed in govt financed factories (national workshops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onsidered more practical that Utopians b/c he looked to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reform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, not to capitalists but to workers &amp; govt (infl. US policy during Great Depressio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Karl Marx &amp; Scientific Soci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1818-1883, “father of communism”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Lived in poverty &amp; witnessed the suffering of English Industrial worker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Wrote: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ab40"/>
                </a:solidFill>
                <a:latin typeface="Cornerstone"/>
              </a:rPr>
              <a:t>Communist Manifesto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pamphlet written w/Fredrich Engel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Used “communist” to distinguish himself from Utopia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ab40"/>
                </a:solidFill>
                <a:latin typeface="Cornerstone"/>
              </a:rPr>
              <a:t>Das Kapital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criticism of 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arxist Ideas &amp; Criticism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MARXIST IDEA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Economic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interpretation of histor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Class Struggl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Surplus Value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capitalists exploit poor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690840" indent="-2656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m will destroy itself beginning in industrial countrie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Ultimate societ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690840" indent="-2656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lassless w/no govt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0963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RITICISM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Neglects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non-econ factor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ligion &amp; nationalism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Interests often coincide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ts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entitled to profit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b/c risks $$ &amp; managing busines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m works w/in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democracie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sponds to voters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volution comes to agricultural countries 1st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State becomes all powerfu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Socialism vs. Commun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SOCI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Achieved by evolution peaceful &amp; legal gaining of contro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emocratic: pwr by consent of the governed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Nationalism of only MAJOR industri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OMMUN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Achieved only by violent overthrow of govt &amp;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ictatorship of the proletariat” govt suppresses all counter revolutionary idea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Requires govt ownership of ALL means of production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Flaws of Commun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Individuals lose incentive to work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becomes a dictatorship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places needs of state over the individua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central planning of econom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must be in constant state of emergency to instigate production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Never achieves Marx’ s ultimate socie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Flaws of Laissez-faire 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labo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consume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environmen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Monopolie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Ultimately “welfare capitalism” or “democratic socialism” becomes necessar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odern Capitalism - Emergence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apital is needed to build factories, purchase machines &amp; raw materials &amp; pay labo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Capitalist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ystem because individuals invest in hope of a profit (future retur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Based on concepts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free enterprise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&amp; competition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Needs &amp; desires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consumer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met by quality goods at lowest price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Adam Smith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rnerstone"/>
              </a:rPr>
              <a:t>Wealth of Na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Invisible Hand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eople work for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self interest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ociety naturally benefit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Laissez-Faire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ernment does not interfere with business -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“hands off”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Basic Principle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Private Ownership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individ. Not gov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Free Enterprise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anyone can participate in busines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Profit Motive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do it for $$$$$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Competition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lower prices, better quality, bigger choice, stimulates creativi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Market Economy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upply &amp; demand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New Forms of Busines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orpora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 business organization owned by a group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stockholder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, each of whom enjoys limited liability (that is, each can be held responsible for losses only up to the limit of his or her investment). A corporation has the ability to raise capital by selling stock to the public.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New Forms of Busines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onsolidations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- When corporations join together for large combinatio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ab40"/>
                </a:solidFill>
                <a:uFillTx/>
                <a:latin typeface="Cornerstone"/>
              </a:rPr>
              <a:t>Horizontal consolidation: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total control of one vital step in the economic process (Rockefeller oil)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ab40"/>
                </a:solidFill>
                <a:uFillTx/>
                <a:latin typeface="Cornerstone"/>
              </a:rPr>
              <a:t>Vertical consolidation: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partial control of each step in the economic process (Carnegie steel)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Monopoly</a:t>
            </a:r>
            <a:r>
              <a:rPr b="0" lang="en-US" sz="28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The absence of competition; one person/co. controls all of an industry, product or service &amp; can set the price - an abuse of 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bor Disconten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LOW WAGE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Barely above starvation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LONG HOURS 12-16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hours/da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Women &amp;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Children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(from age 5 not uncommo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Unsanitary &amp;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UNSAFE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working condi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echnological unemployment displaced worker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Socialism - A Movement to Displace 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ivate individs own &amp; operat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ivate owners provide ppl w/ goods &amp; servic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Individ owners make decisio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SOCI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t representing ppl owns &amp; operat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t determines needs of pp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tate planning - govt plans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No free market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Utopian Socialist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Believed that capitalists, once convinced of merits, would </a:t>
            </a:r>
            <a:r>
              <a:rPr b="0" lang="en-US" sz="2800" spc="-1" strike="noStrike" u="sng">
                <a:solidFill>
                  <a:srgbClr val="fcab40"/>
                </a:solidFill>
                <a:uFillTx/>
                <a:latin typeface="Cornerstone"/>
              </a:rPr>
              <a:t>voluntarily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discard private ownership &amp; profit motiv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To many ppl the possibility that this would happen seemed unlikely, therefore these ppl were considered dreamers or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UTOPIA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Robert Owen, Claude St. Simon, &amp; Charles Fourier advocate the establishment of ideal communities, however, their experimental communities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fail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eventuall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4:10:53Z</dcterms:created>
  <dc:creator>Susan Gregory</dc:creator>
  <dc:description/>
  <dc:language>en-US</dc:language>
  <cp:lastModifiedBy>Susan Gregory</cp:lastModifiedBy>
  <dcterms:modified xsi:type="dcterms:W3CDTF">2008-02-18T07:14:56Z</dcterms:modified>
  <cp:revision>71</cp:revision>
  <dc:subject/>
  <dc:title>Smith v. Marx or Capitalism v. Socialism</dc:title>
</cp:coreProperties>
</file>